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png" ContentType="image/png"/>
  <Override PartName="/ppt/media/image3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93AC2-2EE2-4247-8B86-FE96B1023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310976-CA04-430E-BEB2-3FDFB3778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11E08-910C-424B-95CD-65C01A28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CFF1B3-6BDF-484B-B8C3-FA9E23A7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6D59A-A5AB-4655-84B8-F89C93DD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9200A-F9CA-466A-8C91-788FB52B2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57ED5-D93A-4D0D-9BC7-24EF5075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F61C1-6579-45DE-9A1D-EFAEE5F2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63171C-1F14-4161-BE03-1CF5CD878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FF9A6-F861-475C-8EF0-9DD9B3F03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5ABA0-9395-492A-9C73-A9D39C4AE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B4FFC-7F4C-4BDA-AE26-07F60EA00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629400" y="640080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ccecff"/>
                </a:solidFill>
                <a:latin typeface="Arial"/>
              </a:rPr>
              <a:t>19. Januar 2000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6400800"/>
            <a:ext cx="563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Präsentation von Sabine Mittermeier und Kirsten Sommer</a:t>
            </a:r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9D3F-8EAA-4568-8E85-C24F9E02E9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0" lang="de-DE" sz="2800" spc="-1" strike="noStrike">
                <a:solidFill>
                  <a:srgbClr val="ccecff"/>
                </a:solidFill>
                <a:latin typeface="Tahoma"/>
              </a:rPr>
              <a:t>Eine Präsentation im Rahmen des Seminars</a:t>
            </a: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	</a:t>
            </a:r>
            <a:r>
              <a:rPr b="1" lang="de-DE" sz="3200" spc="-1" strike="noStrike">
                <a:solidFill>
                  <a:srgbClr val="ccecff"/>
                </a:solidFill>
                <a:latin typeface="Tahoma"/>
              </a:rPr>
              <a:t>Online Publikationen von Zeitungsverlagen</a:t>
            </a: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: </a:t>
            </a:r>
            <a:br>
              <a:rPr sz="3200"/>
            </a:b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Strategien, Umsetzung, Perspektiven</a:t>
            </a:r>
            <a:br>
              <a:rPr sz="3200"/>
            </a:br>
            <a:r>
              <a:rPr b="0" lang="de-DE" sz="2800" spc="-1" strike="noStrike">
                <a:solidFill>
                  <a:srgbClr val="ccecff"/>
                </a:solidFill>
                <a:latin typeface="Tahoma"/>
              </a:rPr>
              <a:t>unter Leitung von Katja Riefler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Fließende Grenzen zwischen den Mediengattung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Schärferer Wettbewerb durch Engagement branchenfremder Anbiet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ettbewerbsvorteile der Medienmulti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295280" y="2286000"/>
            <a:ext cx="3900600" cy="2833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114800" y="2971800"/>
            <a:ext cx="3900600" cy="2833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019920" cy="437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Neuste Kommunikationstechnologi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E-Pap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WAP (Wireless Application Protocol)</a:t>
            </a:r>
            <a:r>
              <a:rPr b="0" lang="de-DE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TV-Hand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Breitbandtechnik (mit dem Fernseher ins Internet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Diskuss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Ist die Mediengattung (z.B. Zeitung) überhaupt noch entscheidend, oder geht es nur noch um die Verbreitung von Informationen, egal über welchen Kanal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Is the medium still the message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Was ist CM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962520" y="2514600"/>
            <a:ext cx="1600200" cy="1584360"/>
          </a:xfrm>
          <a:prstGeom prst="rect">
            <a:avLst/>
          </a:prstGeom>
          <a:ln w="0">
            <a:noFill/>
          </a:ln>
        </p:spPr>
      </p:pic>
      <p:pic>
        <p:nvPicPr>
          <p:cNvPr id="89" name="HH01520_" descr=""/>
          <p:cNvPicPr/>
          <p:nvPr/>
        </p:nvPicPr>
        <p:blipFill>
          <a:blip r:embed="rId3"/>
          <a:stretch/>
        </p:blipFill>
        <p:spPr>
          <a:xfrm>
            <a:off x="457200" y="3429000"/>
            <a:ext cx="1828800" cy="968400"/>
          </a:xfrm>
          <a:prstGeom prst="rect">
            <a:avLst/>
          </a:prstGeom>
          <a:ln w="0">
            <a:noFill/>
          </a:ln>
        </p:spPr>
      </p:pic>
      <p:pic>
        <p:nvPicPr>
          <p:cNvPr id="90" name="BS01755_" descr=""/>
          <p:cNvPicPr/>
          <p:nvPr/>
        </p:nvPicPr>
        <p:blipFill>
          <a:blip r:embed="rId4"/>
          <a:stretch/>
        </p:blipFill>
        <p:spPr>
          <a:xfrm>
            <a:off x="5791320" y="4800600"/>
            <a:ext cx="1407960" cy="1387440"/>
          </a:xfrm>
          <a:prstGeom prst="rect">
            <a:avLst/>
          </a:prstGeom>
          <a:ln w="0">
            <a:noFill/>
          </a:ln>
        </p:spPr>
      </p:pic>
      <p:pic>
        <p:nvPicPr>
          <p:cNvPr id="91" name="BS00789_" descr=""/>
          <p:cNvPicPr/>
          <p:nvPr/>
        </p:nvPicPr>
        <p:blipFill>
          <a:blip r:embed="rId5"/>
          <a:stretch/>
        </p:blipFill>
        <p:spPr>
          <a:xfrm>
            <a:off x="2514600" y="4724280"/>
            <a:ext cx="1411200" cy="1428840"/>
          </a:xfrm>
          <a:prstGeom prst="rect">
            <a:avLst/>
          </a:prstGeom>
          <a:ln w="0">
            <a:noFill/>
          </a:ln>
        </p:spPr>
      </p:pic>
      <p:pic>
        <p:nvPicPr>
          <p:cNvPr id="92" name="PE07031_" descr=""/>
          <p:cNvPicPr/>
          <p:nvPr/>
        </p:nvPicPr>
        <p:blipFill>
          <a:blip r:embed="rId6"/>
          <a:stretch/>
        </p:blipFill>
        <p:spPr>
          <a:xfrm>
            <a:off x="7467480" y="304812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 flipH="1">
            <a:off x="2437920" y="3352680"/>
            <a:ext cx="1143000" cy="2286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4038480"/>
            <a:ext cx="685800" cy="60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809880" y="4191120"/>
            <a:ext cx="533520" cy="533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3352680"/>
            <a:ext cx="1143000" cy="381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Was ist CMP?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Mehrfachnutzung von Datenbankinhalten (auch teilweis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Traditionelles DTP &amp; Verwendung von Datenbank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Author once, deploy many</a:t>
            </a: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Vorte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Arial"/>
              </a:rPr>
              <a:t>kostengünstig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Arial"/>
              </a:rPr>
              <a:t>gleichbleibend hohe Qualitä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Arial"/>
              </a:rPr>
              <a:t>schnelle Recherche möglich durch strukturierte Daten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Arial"/>
              </a:rPr>
              <a:t>hohe Speicherkapazitä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ccecff"/>
                </a:solidFill>
                <a:latin typeface="Arial"/>
              </a:rPr>
              <a:t>Werbung für ein Medium im anderen</a:t>
            </a: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DE" sz="2000" spc="-1" strike="noStrike">
                <a:solidFill>
                  <a:srgbClr val="ccecff"/>
                </a:solidFill>
                <a:latin typeface="Arial"/>
              </a:rPr>
              <a:t>(web Adresse der Onlineausgabe in der Printausgabe)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Einsatzmöglichkeit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Publikationen mit periodischer Erscheinungsweis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Auszüge von Publikation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Archivieru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ecff"/>
                </a:solidFill>
                <a:latin typeface="Tahoma"/>
              </a:rPr>
              <a:t>Nutzung von CMP im Zeitungsbusines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Printausgab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Onlineausgab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Zeitung zum Höre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ecff"/>
                </a:solidFill>
                <a:latin typeface="Arial"/>
              </a:rPr>
              <a:t>Jahresausgabe auf CD RO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5365800" cy="3898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295280" y="2057400"/>
            <a:ext cx="5359680" cy="38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ccffff"/>
                </a:solidFill>
                <a:latin typeface="Tahoma"/>
              </a:rPr>
              <a:t>Cross Media Publish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447920" y="2133720"/>
            <a:ext cx="1238040" cy="76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648320" y="2133720"/>
            <a:ext cx="971280" cy="9619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2133720" y="3505320"/>
            <a:ext cx="4457520" cy="1094760"/>
            <a:chOff x="2133720" y="3505320"/>
            <a:chExt cx="4457520" cy="1094760"/>
          </a:xfrm>
        </p:grpSpPr>
        <p:pic>
          <p:nvPicPr>
            <p:cNvPr id="116" name="" descr=""/>
            <p:cNvPicPr/>
            <p:nvPr/>
          </p:nvPicPr>
          <p:blipFill>
            <a:blip r:embed="rId4"/>
            <a:stretch/>
          </p:blipFill>
          <p:spPr>
            <a:xfrm>
              <a:off x="2133720" y="3657240"/>
              <a:ext cx="4457520" cy="45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5"/>
            <a:stretch/>
          </p:blipFill>
          <p:spPr>
            <a:xfrm>
              <a:off x="2133720" y="3505320"/>
              <a:ext cx="206676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133720" y="4114440"/>
              <a:ext cx="129528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7"/>
            <a:stretch/>
          </p:blipFill>
          <p:spPr>
            <a:xfrm>
              <a:off x="5029200" y="411444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1523880" y="502920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5943600" y="5181480"/>
            <a:ext cx="1278000" cy="546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3:13:03Z</dcterms:created>
  <dc:creator>Kirsten Sommer</dc:creator>
  <dc:description/>
  <dc:language>en-US</dc:language>
  <cp:lastModifiedBy>Kirsten Sommer</cp:lastModifiedBy>
  <dcterms:modified xsi:type="dcterms:W3CDTF">2000-01-13T21:25:02Z</dcterms:modified>
  <cp:revision>12</cp:revision>
  <dc:subject/>
  <dc:title>Cross Media Publishing</dc:title>
</cp:coreProperties>
</file>